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EF5-DF61-4D40-9192-7CF98D7CC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7245-0ECA-4B69-A428-26E68C7EA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95C-3872-41F4-863B-3B2F83D2F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rain helps to relay messages, process information, and analyze information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brain consists of the cerebrum, cerebellum, and brain 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18A-0619-4581-BE43-B1C79E2E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B1B-9A85-4BF1-8914-27828FC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A5F-886E-4202-935A-13B133FF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134-1FC8-4A50-829F-8BB025ED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9A2D-C3E3-4481-969F-DA17A2D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4F78-7A4C-4B4E-A14D-03A55B3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065B-66EB-401A-B71D-930AF37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464D-1000-4323-80DE-7FB6C0A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96E-E624-4C67-9546-94467D76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DA2C-7BF7-48A6-BBE6-0188D1B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1FD-7D01-48BA-A24D-D39A74C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7C6-E2EC-47F6-8788-83DB8CA9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AB69-BDFD-415C-A262-AB27CB5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A3E-E2F9-4D21-8097-E875218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2F30-842F-4625-9560-4DB39A6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976-FFCE-4771-A0DA-748AD429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3F4-4720-4CC5-9FF8-2114D3C8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E4EE-EDA5-40D6-B012-55F73277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EE54-A9CC-487A-8C5D-226A252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4B50-0B20-44CB-947D-FE5CBD99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979A-24CE-490F-8A03-B4EEA6D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1438-6551-4FAC-96E0-B6D2727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91A-7A49-4774-8E80-A9C8DC0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D0C8-8CE4-482C-A533-2EC705C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318B-A5FC-4ACD-95A6-E12B58B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1744-48C0-4ED8-B809-0BD74EB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9263-F7C3-4D9A-9172-C8E1A33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3746-DD64-416F-85D8-6BF5DB35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CE00-E04B-4264-8F24-4C59AD6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B9F5-1ED8-4F7D-9DDC-FAC93D91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82E8-8BA7-4F71-917D-6EA68BD6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A242-15DF-4078-964D-8250A95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31E3-FEF3-4CC5-968B-FCA039C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FED-B299-41FF-8BD8-E58DB875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AD4D-E1DC-4BD3-816E-668487A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1E82-CE3A-42FD-AD3A-073AD11E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3CD1-E4D4-40E6-B7D6-99E9AEC0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C1C1-57A5-4BF3-8DC5-5F04DC3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DD13-B69B-488E-BFD6-E87B13D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3601-F1B0-46A0-A032-4E31B30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359C-BBE5-4968-B8B0-404F168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8CCC-CBED-47BC-895E-5D053D26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3592-D749-4197-9C85-08A9123A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BC2E-C281-4F3C-9CE6-7651F4F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7D7-A5D9-4B47-BB0E-CE632B3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11F3-BE17-49FF-B703-5F19E97F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6498-FA83-4E17-8FF5-21E3F0C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0737-8AD7-4D58-B273-5D49838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1CC9-F561-44A3-B58E-FFC307E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D742-2EF4-4B9D-9628-A5FB4AA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DB5F-1994-49C2-8327-6B735F12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90C7-E95D-4220-AA54-9E9C3C7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0F8F-8590-4A54-B9B1-1E1190B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8BFE-D1D8-45BA-9796-96CDE68E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89AA-E36D-406A-A4E6-DB0FB2B8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9A0-4655-42B7-905C-9F1FE99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ED44-3F3A-4C09-B58C-4148A046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769A4-BFC2-4F1F-A6D1-C1C352F3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8CD35-DD99-4466-80A8-21A0688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8607E-9E69-4461-BA2F-99D89CF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9B5A-E45A-4D2C-B89D-F89B90C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B216-9D65-4051-B1D6-4704DA65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051B-FC31-4F65-B5BD-90753E7A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8E0D-252D-4B25-BF37-30DB104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1037-65ED-447F-926E-9213922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181D-1BD5-41B5-8715-C7FB71F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AEC-6FBC-412D-AA71-47F7D668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1DEF-958F-4325-8DC6-32E7CAB3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5095-F868-4C65-ADEB-9C0A9395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E389-FB6C-4093-90AE-CD1C5E50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1CC23-6143-4D03-88C4-640E6E1A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82EC2-9E5C-4EDF-988B-F7DBDB0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65D7-EE52-4A52-A491-57C940A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E8321-57C7-4600-A0C0-F868C89E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E2CF-E0D3-4698-ABCD-CEAA9B08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71C33-4B4D-4FF6-9027-AA16A1D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EC12B-A27D-4990-A42C-2D70C4C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0CE-0E22-42AB-A816-E6BED4C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F283-2ABD-4CA5-AF77-4FF4FCA0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F8C87-CA7E-4722-A32F-87254E7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2348-EF50-4E24-9E56-CE6C3470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0AC0C-B51D-4950-ABA1-E4E32D22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A63C-1AE6-4FB3-B68C-3BAB53DC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E62-FF50-4C1E-BFDA-7905453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A33-1805-429E-B39C-EEE44E17E9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A46-9237-4E3A-9C20-FA4FEE9CA4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59C-7F94-4017-967C-19C76DE45B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F17-0880-47A2-A819-74337B070D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4263-E9EA-4920-8F22-B149343978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F0E8-38E5-4FF9-8F87-FD42FB44A3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0E3-4A74-4A33-B64A-DB861C38E3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Nervous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tructures and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http://dualfit.com/wp-content/uploads/2012/04/Screen-Shot-2012-04-28-at-11.09.00-PM.png"/>
          <p:cNvPicPr/>
          <p:nvPr/>
        </p:nvPicPr>
        <p:blipFill>
          <a:blip r:embed="rId1"/>
          <a:stretch/>
        </p:blipFill>
        <p:spPr>
          <a:xfrm>
            <a:off x="6168960" y="2816280"/>
            <a:ext cx="2371680" cy="3335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http://img.ehowcdn.com/article-new/ehow/images/a04/uf/79/information-nervous-system-800x800.jpg"/>
          <p:cNvPicPr/>
          <p:nvPr/>
        </p:nvPicPr>
        <p:blipFill>
          <a:blip r:embed="rId2"/>
          <a:stretch/>
        </p:blipFill>
        <p:spPr>
          <a:xfrm>
            <a:off x="682560" y="2816280"/>
            <a:ext cx="4322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ka the “little brain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onsible for coordination of motor fun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involved in language (although poorly understoo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rain 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parts: pons and medulla oblong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diates flow between body and br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3716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ala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eives and relays information from spine to appropriate area of cerebr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ion between endocrine system and nervous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in highway system to central hub that is the br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ipheral Nervous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vided into two parts: somatic and autonom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atic said to be under voluntary contr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ough it involves sensory neurons and motor neurons connected to skeletal mus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utonomic can be thought of as “automatic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ons that are involunt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34960" y="45720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rther divided into two sections: sympathetic and parasympathe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form opposite roles in bod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m vs p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8728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ntral Nervous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ready know it consists of the brain and spin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th are bathed in the cerebrospinal flu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protects and nourish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encased in the meninges – three layers of connective tiss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2" descr="http://www.premierfortcollinschiropractor.com/wp-content/uploads/2010/12/meninges-2.jpg"/>
          <p:cNvPicPr/>
          <p:nvPr/>
        </p:nvPicPr>
        <p:blipFill>
          <a:blip r:embed="rId1"/>
          <a:stretch/>
        </p:blipFill>
        <p:spPr>
          <a:xfrm>
            <a:off x="4495680" y="4648320"/>
            <a:ext cx="1987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arts of the Human Brai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2189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5" descr="35-9"/>
          <p:cNvPicPr/>
          <p:nvPr/>
        </p:nvPicPr>
        <p:blipFill>
          <a:blip r:embed="rId1"/>
          <a:stretch/>
        </p:blipFill>
        <p:spPr>
          <a:xfrm>
            <a:off x="793800" y="1778040"/>
            <a:ext cx="7531200" cy="4340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6908760" y="2452680"/>
            <a:ext cx="7542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6743880" y="233208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alamu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648560" y="2801880"/>
            <a:ext cx="5810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7548480" y="2738520"/>
            <a:ext cx="15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neal gla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053120" y="4614840"/>
            <a:ext cx="10321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6940440" y="45752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ebellu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6313320" y="5630760"/>
            <a:ext cx="928800" cy="2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91280" y="55627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914400" y="4325760"/>
            <a:ext cx="1146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382680" y="4194000"/>
            <a:ext cx="180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ypothalamu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987480" y="4659480"/>
            <a:ext cx="10875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355680" y="46180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tuitary gla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523880" y="2060640"/>
            <a:ext cx="8272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765000" y="1878120"/>
            <a:ext cx="17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ebru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1465200" y="5342040"/>
            <a:ext cx="8859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847800" y="52624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ain 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2700360" y="5070600"/>
            <a:ext cx="853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2700360" y="5675400"/>
            <a:ext cx="143028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2822400" y="49957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921040" y="5353200"/>
            <a:ext cx="14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rgest section, made of many folded regions called fissures (why?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ngitudinal central fissure runs through the middle, dividing the brain into hemisphe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ight and left connected by corpus callos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s voluntary a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rther divided into four lob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pegasus.cc.ucf.edu/~Brainmd1/brmodelc.gif"/>
          <p:cNvPicPr/>
          <p:nvPr/>
        </p:nvPicPr>
        <p:blipFill>
          <a:blip r:embed="rId1"/>
          <a:stretch/>
        </p:blipFill>
        <p:spPr>
          <a:xfrm>
            <a:off x="1371600" y="228600"/>
            <a:ext cx="66294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47560" y="5486040"/>
            <a:ext cx="7497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lobe has specific control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8" descr="35-10"/>
          <p:cNvPicPr/>
          <p:nvPr/>
        </p:nvPicPr>
        <p:blipFill>
          <a:blip r:embed="rId1"/>
          <a:stretch/>
        </p:blipFill>
        <p:spPr>
          <a:xfrm>
            <a:off x="2209680" y="38088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er portion is the cerebral cortex, made of grey mat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ner portion is made of white mat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s of glial cells and myelinated ax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lial cells outnumber neurons and perform custodial ro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m myel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 nutir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te extracellular materi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home.apu.edu/~jsimons/Bio101/glial_cells.gif"/>
          <p:cNvPicPr/>
          <p:nvPr/>
        </p:nvPicPr>
        <p:blipFill>
          <a:blip r:embed="rId1"/>
          <a:stretch/>
        </p:blipFill>
        <p:spPr>
          <a:xfrm>
            <a:off x="228600" y="762120"/>
            <a:ext cx="852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pubpages.unh.edu/~jel/images/brain_glia.jpg"/>
          <p:cNvPicPr/>
          <p:nvPr/>
        </p:nvPicPr>
        <p:blipFill>
          <a:blip r:embed="rId1"/>
          <a:stretch/>
        </p:blipFill>
        <p:spPr>
          <a:xfrm>
            <a:off x="228600" y="609480"/>
            <a:ext cx="871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2:34:56Z</dcterms:created>
  <dc:creator>ED18</dc:creator>
  <dc:description/>
  <dc:language>en-US</dc:language>
  <cp:lastModifiedBy>ED18</cp:lastModifiedBy>
  <dcterms:modified xsi:type="dcterms:W3CDTF">2012-05-18T10:09:50Z</dcterms:modified>
  <cp:revision>4</cp:revision>
  <dc:subject/>
  <dc:title>The Nervous System</dc:title>
</cp:coreProperties>
</file>